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EEB3-CC4D-4C61-9579-CA481E365B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4ED7-2464-4B4A-BC83-11292A609C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B7E2-A4D7-400C-B2E9-36F1A5D68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69B-679E-4F04-B493-94C6C68B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D95-F2E8-4107-BF53-351F76E9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49D-E6BC-40A5-8A97-6EDB4783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B0AE-8B10-46F6-BEF5-697AEC4D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4D61-CF6C-434C-84B2-9E00E1228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48E2-DE66-41AD-A37A-8ACC52D5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B733-BA07-48E9-B564-26D733F2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C34E-E5B9-4BE1-8E16-F0914230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5C6E-41A6-42E9-B06B-C021D62A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AE19-B380-4AF3-AFD7-954F1DD9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C1BB-DE0D-4C48-A3A8-82862AA4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08C5-BF65-4024-86F4-F59ABFC1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7A88-DBD7-4C00-A436-488F3F9C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74C8-1D22-472C-8DA1-4E5951B8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1A9D-9D8C-4181-81A5-5755271A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003F-2B12-4779-B714-F7852255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2DE0-5F46-49DA-AB6F-99A13137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C880B-92BA-486E-846C-5E6859C7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DD978-9219-49E3-A81F-05F4C2A6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DCF95-7D0F-452C-9867-08638422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BA6C-318F-45DD-8201-3DC13A1D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E052-F24E-42EC-9BA9-6226FF89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DB5-5A4B-43AB-8330-6B17918E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3416-1440-4964-8448-2219DD40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2D18-4A39-4CAD-8EB7-7CD4D907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4037D-484B-446C-B234-B66F086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69D2-2414-4EBA-811B-04E82190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FA72-EC6C-4D3C-9607-90170E9E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29985-D9DE-457E-A53A-0ADED0D9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BCD2-44E9-417D-8D41-60E9249E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7D9CB-B2A5-4BFC-A941-2E1C933A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12978-857E-4DC1-AAF8-F3A78EA2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F0D2-FA7E-4924-83CF-8B5DCF8A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21D-3E4C-4787-8600-BE8380DE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F9967-A32B-48C2-8B6C-B1018A17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0BEBD-0318-4887-9464-B8839BB3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036E-9047-4C31-8997-912E2883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C2D85-5877-4D22-B7EC-AC50A62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45349-CD22-4876-99AF-815A6797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54A40-9848-477B-99D0-B204438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5494-3A0D-475A-9EA0-7250CE6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351D-593D-4328-93B0-983F49CA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E7C3-4110-4549-BCDB-97657DA5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2C5B-91B1-425B-B1C3-4C65E693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9F7-50BE-4D74-A2CE-76881E14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5C0DB-4C51-43B9-9789-83ABCFB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E906-73D2-4506-8D89-D3E11903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DC59-ABBB-446D-915D-98F915E4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52839-433C-40C0-B8D2-95FEFA54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C026-81E3-418C-83F9-CFEFA98A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4402B-2C8F-437A-9AE5-5672C040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A5D5-25C9-4217-9E30-94232AB0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0DD84-DCB9-4005-ACE5-19F4DFEA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9BE97-CD1F-45F2-84CE-FEEEADD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6EBE4-46A3-492C-BF29-ADAD9C08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951-24A4-4C9A-83AB-545EBA16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BD67F-DF2D-4253-BBBB-4A1B428E6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10A-693B-47A8-A21D-9E83236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5B3-A722-4BA2-83F8-B631339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EFD-506C-4D80-8594-B7C98EFC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F6E4-11E1-4CF6-A5E7-B549CF503E0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2F88-F467-4F59-93A8-E225F43F7AE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3"/>
          <p:cNvGrpSpPr/>
          <p:nvPr/>
        </p:nvGrpSpPr>
        <p:grpSpPr>
          <a:xfrm>
            <a:off x="-4680" y="38160"/>
            <a:ext cx="9153360" cy="596520"/>
            <a:chOff x="-4680" y="38160"/>
            <a:chExt cx="9153360" cy="596520"/>
          </a:xfrm>
        </p:grpSpPr>
        <p:sp>
          <p:nvSpPr>
            <p:cNvPr id="8" name="AutoShape 4"/>
            <p:cNvSpPr/>
            <p:nvPr/>
          </p:nvSpPr>
          <p:spPr>
            <a:xfrm>
              <a:off x="0" y="144720"/>
              <a:ext cx="9148680" cy="136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5"/>
            <p:cNvSpPr/>
            <p:nvPr/>
          </p:nvSpPr>
          <p:spPr>
            <a:xfrm>
              <a:off x="0" y="327240"/>
              <a:ext cx="9148680" cy="30744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307440"/>
                <a:gd name="textAreaBottom" fmla="*/ 30780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6"/>
            <p:cNvSpPr/>
            <p:nvPr/>
          </p:nvSpPr>
          <p:spPr>
            <a:xfrm>
              <a:off x="-4680" y="38160"/>
              <a:ext cx="9148680" cy="5400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Picture 7" descr="g615_tyumen_obl[1]"/>
          <p:cNvPicPr/>
          <p:nvPr/>
        </p:nvPicPr>
        <p:blipFill>
          <a:blip r:embed="rId2"/>
          <a:stretch/>
        </p:blipFill>
        <p:spPr>
          <a:xfrm>
            <a:off x="66600" y="55440"/>
            <a:ext cx="436680" cy="568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" name="AutoShape 8"/>
          <p:cNvSpPr/>
          <p:nvPr/>
        </p:nvSpPr>
        <p:spPr>
          <a:xfrm flipV="1">
            <a:off x="-4320" y="6573240"/>
            <a:ext cx="9148680" cy="285480"/>
          </a:xfrm>
          <a:custGeom>
            <a:avLst/>
            <a:gdLst>
              <a:gd name="textAreaLeft" fmla="*/ 0 w 9148680"/>
              <a:gd name="textAreaRight" fmla="*/ 9149040 w 9148680"/>
              <a:gd name="textAreaTop" fmla="*/ -360 h 285480"/>
              <a:gd name="textAreaBottom" fmla="*/ 28548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33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B90-7C61-4CA7-8676-929BDECEB11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E0AC-4C0C-40C2-AB91-ED83BA3D5F2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1377-BC24-4534-A4E9-8CCF8980D0CD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1824-40C0-4F93-A526-B35CF31FA44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3277-704B-4B5F-A94C-CBDAA95152E5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ACBB-8FD9-4FA2-9A0D-FB6635990B3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2C0D-0D72-4526-85AE-6B193EDA729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Franklin Gothic Medium"/>
              </a:rPr>
              <a:t>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Franklin Gothic Medium"/>
              </a:rPr>
              <a:t>ПРИЛОЖЕНИЕ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Franklin Gothic Medium"/>
              </a:rPr>
              <a:t>«</a:t>
            </a:r>
            <a:r>
              <a:rPr b="0" lang="ru-RU" sz="800" spc="-1" strike="noStrike">
                <a:solidFill>
                  <a:srgbClr val="000000"/>
                </a:solidFill>
                <a:latin typeface="Franklin Gothic Medium"/>
              </a:rPr>
              <a:t>ПЕРЕЧЕНЬ ПРОГРАММНЫХ МЕРОПРИЯТИЙ ПО ОРГАНИЗАЦИИ ОТДЫХА, ОЗДОРОВЛЕНИЯ, ЗАНЯТОСТИ ДЕТЕЙ, ПОДРОСТКОВ И МОЛОДЁЖИ П. БОРОВСКИЙ В 2022 ГОДУ» МУНИЦИПАЛЬНОГО ОБРАЗОВАНИЯ ПОСЕЛОК БОРОВСКИЙ</a:t>
            </a:r>
            <a:br>
              <a:rPr sz="1000"/>
            </a:br>
            <a:br>
              <a:rPr sz="1000"/>
            </a:br>
            <a:endParaRPr b="0" lang="en-US" sz="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712800"/>
          <a:ext cx="8496000" cy="5632560"/>
        </p:xfrm>
        <a:graphic>
          <a:graphicData uri="http://schemas.openxmlformats.org/drawingml/2006/table">
            <a:tbl>
              <a:tblPr/>
              <a:tblGrid>
                <a:gridCol w="2172240"/>
                <a:gridCol w="580320"/>
                <a:gridCol w="580320"/>
                <a:gridCol w="570600"/>
                <a:gridCol w="528480"/>
                <a:gridCol w="623160"/>
                <a:gridCol w="570600"/>
                <a:gridCol w="515520"/>
                <a:gridCol w="574200"/>
                <a:gridCol w="640440"/>
                <a:gridCol w="552240"/>
                <a:gridCol w="553680"/>
                <a:gridCol w="36000"/>
              </a:tblGrid>
              <a:tr h="86040">
                <a:tc rowSpan="2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занят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несовершеннолетних (чел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р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ю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ю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вгу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н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т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 пл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фак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Отдых, оздоровлени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 занятость в лагерях дневного пребывания на базе О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44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аппг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 занятость в лагерях дневного пребывания на базе МАУ ДО ДЮСШ ТМ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 аппг 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8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3 занятость в лагерях дневного пребывания на базе МАОУ ДОД ДШИ «Фантаз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1</a:t>
                      </a:r>
                      <a:r>
                        <a:rPr b="0" lang="ru-RU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 (аппг-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Занятость на постоянной основ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занятость в секциях СК «Боровский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93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аппг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ость в секциях МАУ ДО ДЮСШ ТМ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661/6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 занятость в кружках, клубных объединениях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654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аппг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 досуговые  площадки (ЦКиД «Родонит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704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 аппг 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44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 спортивные площадки (ЦФСР «Олимпия»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510 аппг 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76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Трудоустройство совместно с ЦЗ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0"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 отряд глав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15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2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 СОШ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10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1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 ЦКиД «Родонит» (бюджетная сфер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 ЦФиСР «Олимпия» (бюджетная сфер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 МАОУ ДО Боровская ДШИ «Фантазия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6  МАУ ДО ДЮСШ Тюм. райо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7 Библиоте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 молодежный центр «Поколение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40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 ГБУЗ ТО «Областная больница №19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Трудоустройство во внебюджетной сфере с Ц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r>
                        <a:rPr b="0" lang="ru-RU" sz="10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/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960" rIns="399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960" marR="39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86608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Franklin Gothic Medium"/>
              </a:rPr>
              <a:t>ПЛАНИРУЕМОЕ ТРУДОУСТРОЙСТВО КОЛИЧЕСТВО НЕСОВЕРШЕННОЛЕТНИХ И РУКОВОДИТЕЛЕЙ (ОТРЯД ГЛАВЫ 2022)</a:t>
            </a:r>
            <a:endParaRPr b="0" lang="en-US" sz="13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4000" y="476280"/>
          <a:ext cx="8424720" cy="6286320"/>
        </p:xfrm>
        <a:graphic>
          <a:graphicData uri="http://schemas.openxmlformats.org/drawingml/2006/table">
            <a:tbl>
              <a:tblPr/>
              <a:tblGrid>
                <a:gridCol w="963360"/>
                <a:gridCol w="2479680"/>
                <a:gridCol w="2784600"/>
                <a:gridCol w="21970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ме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ериод трудоустро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оличество и должность несовершеннолет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уководите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весен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весенняя   смена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14 марта  по 25 марта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18 апреля по  29 апрел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весен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4 мая по 19 ма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5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 весен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16 мая по 27ма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 рабочих зеленого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лет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3 июня по 24июн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рабочих зеленного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подсобные рабоч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4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лет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7 июня по 28 июня 2022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рабочих зеленного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3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45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лет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4 июля по 22 июл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рабочих зеленного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 лет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11 июля по 29июл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 рабочих зеленного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3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48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6 лет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01 августа по 19.08.20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7рабочих зеленого хозяйств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41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осен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5 сентября по 16 сентября 2022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5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осен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осенняя сме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3 октября по 14 октября 2022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 7 ноября по 18 ноября 2022 год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подсобных рабоч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то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его – 215 рабочих мес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5:52:52Z</dcterms:created>
  <dc:creator>inf</dc:creator>
  <dc:description/>
  <dc:language>en-US</dc:language>
  <cp:lastModifiedBy>user</cp:lastModifiedBy>
  <cp:lastPrinted>2022-03-17T05:27:16Z</cp:lastPrinted>
  <dcterms:modified xsi:type="dcterms:W3CDTF">2022-03-17T05:30:04Z</dcterms:modified>
  <cp:revision>1047</cp:revision>
  <dc:subject/>
  <dc:title>Итоги и перспективные направления деятельности территориальных управлений социальной  защиты населения  на 2008 год</dc:title>
</cp:coreProperties>
</file>